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CD2-51BC-4A94-86BE-70E78A5E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F3F-750F-424B-860F-5CC37435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E4C-A938-42B2-9123-3ADA2D8C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0AB-5D94-432A-9F70-0AE595E0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6ADC-31AB-4CA5-A831-403F9E4D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C129-8B6E-4F96-8649-44BC059D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112F-A7D1-4C99-9CD7-4ACA6385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7B3B-156E-4B14-8618-13447C54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7403-8473-4923-BE4F-6BD8DC54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078D-346A-45D0-80C6-A42FB9AC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FD7F-3767-4444-8872-6380B254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2D8-0A19-4B4F-B6BA-99483BE4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B0BF-1AAF-4C87-A20F-1F3B58FC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30F1-3C3A-4DD1-B112-508194AF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88B9-4CD8-4AF8-BAB3-3319BE42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244C-F72E-4901-9B1F-651F2996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88A9-7461-4169-8722-710772CA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912-E486-4A4A-B84A-E9D15C34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87A-20CC-4BFA-AA79-5CA28E42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C0C-A53E-4717-8D86-6C37C6CF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E6D-60F1-4D27-A2F0-B65FF7DC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1F6-CD4F-4406-9BF0-3A00CA32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9B5-BEFB-4893-A5CB-FFC6B592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74E-5B93-4FC0-9ACD-6AD0621E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CCC5-9E4A-44F8-A136-2BDF8BAD9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D165-0A86-4A1A-99D2-19A801B54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cb5"/>
                </a:solidFill>
                <a:latin typeface="Tahoma"/>
              </a:rPr>
              <a:t>Ecce 6 – Early In The Day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 this chapter, we see the parents for the first time and also learn about the lives of slaves.  We also see Cornelia moving from the life of a carefree young girl to her preparation for her future role as a wealthy wif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relia Corneliam docet villam curare.  Ancillae villam purgant, cibum coquun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am trahunt.  Reprehendunt Aurelia ancillas si ignavae sunt.  Matrem observa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Cornel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omnia quae mater facit facere para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Matrem adiuvare vult, sed ipsa neque servum ne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illam reprehendit.  Servi et ancillae nunc strenue laborant.  Necesse est neque servu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que ancillam reprehend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7. Quid Cornelia facere par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Cornelia omnia quae mater facit facere par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relia Corneliam docet villam curare.  Ancillae villam purgant, cibum coquun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am trahunt.  Reprehendunt Aurelia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ancillas si ignavae su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Matrem observat Cornelia 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a quae mater facit facere parat.  Matrem adiuvare vult, sed ipsa neque servum ne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illam reprehendit.  Servi et ancillae nunc strenue laborant.  Necesse est neque servu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que ancillam reprehend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8. Quid Cornelia non faci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nelia neque villam purgat ne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ancilla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hendi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si ignavae sun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Copy each sentence with the correct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Ī </a:t>
            </a:r>
            <a:r>
              <a:rPr b="0" lang="en-US" sz="2400" spc="-1" strike="noStrike">
                <a:solidFill>
                  <a:srgbClr val="6600ff"/>
                </a:solidFill>
                <a:latin typeface="Tahoma"/>
                <a:ea typeface="Tahoma"/>
              </a:rPr>
              <a:t>IN VĪLL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HABITAT  /  HABI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Ī </a:t>
            </a:r>
            <a:r>
              <a:rPr b="0" lang="en-US" sz="2400" spc="-1" strike="noStrike">
                <a:solidFill>
                  <a:srgbClr val="6600ff"/>
                </a:solidFill>
                <a:latin typeface="Tahoma"/>
                <a:ea typeface="Tahoma"/>
              </a:rPr>
              <a:t>IN VĪLL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HABITA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  <a:ea typeface="Tahoma"/>
              </a:rPr>
              <a:t>IN AGRĪ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LABŌ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US / SERV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  <a:ea typeface="Tahoma"/>
              </a:rPr>
              <a:t>IN AGRĪ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LABŌ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DĀV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US / SERV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)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  <a:ea typeface="Tahoma"/>
              </a:rPr>
              <a:t>BRITANNIC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DĀV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US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  <a:ea typeface="Tahoma"/>
              </a:rPr>
              <a:t>BRITANNIC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PAT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 SERVUS / SERVUM )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REPREHENDI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PA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RVUM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REPREHEND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ANCILLAE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  <a:ea typeface="Tahoma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UM / SERV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)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  <a:ea typeface="Tahoma"/>
              </a:rPr>
              <a:t>DĒFESSĪ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SU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ANCILLAE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  <a:ea typeface="Tahoma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  <a:ea typeface="Tahoma"/>
              </a:rPr>
              <a:t>DĒFESSĪ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SU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9cb5"/>
                </a:solidFill>
                <a:latin typeface="Tahoma"/>
              </a:rPr>
              <a:t>IMPERSONAL VERBAL PHRASES</a:t>
            </a:r>
            <a:r>
              <a:rPr b="0" lang="en-US" sz="2400" spc="-1" strike="noStrike">
                <a:solidFill>
                  <a:srgbClr val="7b9cb5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1400" spc="-1" strike="noStrike">
                <a:solidFill>
                  <a:srgbClr val="7b9cb5"/>
                </a:solidFill>
                <a:latin typeface="Tahoma"/>
              </a:rPr>
              <a:t>Supply any direct object from Chapters 1-6 to each sentence and translate each sentence into English.</a:t>
            </a: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atrem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______________ AM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OBSERV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PŪRG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VEX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TERRĒ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ASCENDE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REPELLE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PET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ADIUV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PORT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cb5"/>
                </a:solidFill>
                <a:latin typeface="Tahoma"/>
              </a:rPr>
              <a:t>Ecce 6 – Early In The Day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Principal Parts and English Derivatives—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ter, patris, m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ter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ibus, cibī, m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ibopho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āter, mātris, f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tri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qua, aquae, f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queo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  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cb5"/>
                </a:solidFill>
                <a:latin typeface="Tahoma"/>
              </a:rPr>
              <a:t>Ecce 6 – Early In The Day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rincipal Parts and English Derivatives--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erb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ortō, -āre, -āvī, -ā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ūrgō, -āre, -āvī, -ā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urga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quō, coquere, coxī, coc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nco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diuvō, -āre, adiūvī, adiū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djuv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ūcet, lūcēre, luxi, _____ (impersonal verb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uxur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urgō, surgere, surrēxī, surrectūr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sur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ūrō, -āre, -āvī, -ā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u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oceō, docēre, docuī, doc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ndoctr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bservō, -āre, -āvī, -ā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bserv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   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cb5"/>
                </a:solidFill>
                <a:latin typeface="Tahoma"/>
              </a:rPr>
              <a:t>Ecce 6 – Early In The Day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Principal Parts and English Derivatives—</a:t>
            </a:r>
            <a:r>
              <a:rPr b="1" lang="en-US" sz="2000" spc="-1" strike="noStrike">
                <a:solidFill>
                  <a:srgbClr val="6600ff"/>
                </a:solidFill>
                <a:latin typeface="Tahoma"/>
              </a:rPr>
              <a:t>Prepos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p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with the accusative case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per d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per villam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 the country ho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per hort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 the ga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per agro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 the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dum lucet, s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nel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rgit et per villam ambulat.  Adhuc dormiu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ter 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ater et Marc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Etia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xt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rmit neque Corneliam vexat.  Non tamen dormiu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rv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cilla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m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am surgunt et laborare parant quod Cornelium et Aureli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Nondum lucet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se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Cornel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r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et </a:t>
            </a: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per villam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mbula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dhuc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rmi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pater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ahoma"/>
              </a:rPr>
              <a:t>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mater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ahoma"/>
              </a:rPr>
              <a:t>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 Marc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Etiam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Sext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rm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nequ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rneli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x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Non tame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rmi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serv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ancilla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Om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am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rg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aborare pa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o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rnel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ureli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i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1. Qui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surgi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Cornel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rg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2.  Qui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dormiunt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Pater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ahoma"/>
              </a:rPr>
              <a:t>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 mater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ahoma"/>
              </a:rPr>
              <a:t>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 Marcus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ahoma"/>
              </a:rPr>
              <a:t>e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Sextus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rmi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.B. Quis…?=Who..? For o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…?=Who..? For tw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nelia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ancillam, nomine Syram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servat quae villam purgat e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alteram, nom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Thressam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e cibum coquere parat.  Multi servi mox in agros currunt ubi stren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orant.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qu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e rivo in vill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ort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3. Quid faciunt servi et ancilla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abor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4.  Quid servi e rivo in villam port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qu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ort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am surgunt Cornelius et Aurelia.  Cornelius petit Davum qui in horto est.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Iratus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ito est Cornelius.  Davum reprehendi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qu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 arbore sedet neque laborat.  Davu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bi Cornelium audit, statim surgit et laborare par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5. Cur Cornelius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irat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Irat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 Cornelius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qu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vus non labor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relia Corneliam doce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villam curar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ncillae villam purgant, cibum coquun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am trahunt.  Reprehendunt Aurelia ancillas si ignavae sunt.  Matrem observat Cornelia 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a quae mater facit facere parat.  Matrem adiuvare vult, sed ipsa neque servum ne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illam reprehendit.  Servi et ancillae nunc strenue laborant.  Necesse est neque servu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que ancillam reprehend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6. Quid Aurelia Corneliam doce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relia Corneliam doce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villam cur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21:24:02Z</dcterms:created>
  <dc:creator>Bellos Nisan</dc:creator>
  <dc:description/>
  <dc:language>en-US</dc:language>
  <cp:lastModifiedBy>Bellos Nisan</cp:lastModifiedBy>
  <dcterms:modified xsi:type="dcterms:W3CDTF">2009-10-12T05:57:29Z</dcterms:modified>
  <cp:revision>10</cp:revision>
  <dc:subject/>
  <dc:title>Ecce 6 – Early In The Day </dc:title>
</cp:coreProperties>
</file>